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DF4C-BA84-424C-AD0D-57EEA693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FDA8-87BF-45BC-B76F-39235712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78B8E-FCA2-4F37-B0B4-9762BEE6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A858D-3F88-4F0D-8D2E-5581463B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2A2F-F982-43AE-A9A0-94867020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6F57-45EC-4225-B304-55F1EC2A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9D02-4FEF-418A-A298-F802A950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50B7-77ED-42BD-B02B-8EEBEAC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9CFB-6E52-442A-944F-82C4AA76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47FB-F7EC-4981-B499-BC85ED9B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BA08-FBBD-4863-8551-856F1569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63EF-6B1F-4E49-9784-05FB119F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3E49-8801-425B-8048-A5EA1DE4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F0DB-F2E3-4AD3-A433-D531B0DF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737B-6BD8-4CF9-A5CB-2029558B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7B88-4581-4D22-9C36-2F2B0CC0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F170-DB1C-49CF-AF75-9DEF9FBA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EFAB-91E5-41F1-B736-63B2D7AC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726E-E531-4BC7-935E-C31039F2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A2C8-BCEA-47D9-9644-CFB4EE10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DBC4-3B79-4CC8-9A0A-28D8C70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CB6B-A365-4021-B7CB-EB51964D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D246-95AB-4213-A5F4-A78C1E06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2003-27FD-4CBF-BF80-4CA6220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9505-5D85-453B-865E-1CDF858D82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967C-E365-4417-A643-F1A9DE58D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oordinate Creation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rm 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the origi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scribe what quadrants a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ich quadrant would (5,6) be i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quadrant would (-4, -8) be i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an intercep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 we write a y intercept of 2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do you write a x intercept of 6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Your Ho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ve your written coordinates to a partn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nd the coordinates on the provided grid paper to recreate their draw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you did not do this homework, find the coordinates that I will provide you wi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ttleship!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 your worksheet, fill in where your ships are on the left coordinate plane (if it is 4 points long, that means it takes up 4 squar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will play with a partner.  Do not let them see your board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ick coordinates for them and see if you hit or miss their ship.  If you hit, mark an x on that coordinat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bject is to sink their ships before they can sink all of yours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4:30:27Z</dcterms:created>
  <dc:creator>Student</dc:creator>
  <dc:description/>
  <dc:language>en-US</dc:language>
  <cp:lastModifiedBy>Student</cp:lastModifiedBy>
  <dcterms:modified xsi:type="dcterms:W3CDTF">2009-07-24T14:35:33Z</dcterms:modified>
  <cp:revision>1</cp:revision>
  <dc:subject/>
  <dc:title>Coordinate Creations</dc:title>
</cp:coreProperties>
</file>